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339E-225E-467B-A613-9D4A9AC0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A18F-0F85-4592-8753-46D70218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6456-A3AE-42C7-B79B-7E8148D58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53B7-315C-4A73-BE4E-0282CE43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C53A-4496-43A9-B9A3-47AC22DF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13FB-1C92-497C-9197-208D1A34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E6DC-CEB5-4EF0-878E-611635F9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7429-D395-43F9-98A3-12AE1FE7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09B9-6774-4838-B71C-A4944649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7908-1450-4363-BC9B-3D04C44F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1562-5B5E-4051-AB2D-34543746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7339-0C8B-4A32-B525-3914FC26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A25C-77B7-4F28-BB9E-3BFCC91A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2E89-660F-46D1-A192-F10C76F5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C865-8FDA-4447-929A-95CAFE3E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FCFB-84B3-442E-AB8A-D490A18F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45B8-5F36-4360-80E2-F6C56626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6BE15-A4E1-482B-98B1-B4F057D8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9EB5D-B08B-41B7-A6D8-7674E2E2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3B5D0-5719-40CB-9AEA-98BBD3D5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867EE-FE20-4B09-9CB0-65358743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443D4-A233-4774-B56E-C02E1ADB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E001-906F-44F8-A360-9590F4BD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C45D4-0B43-4652-A376-BC0954C1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0F792-A9F3-451C-BC61-A47E60C7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8D95A-F388-44D3-8C53-F9F92BAF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1E7FB-5FC3-4C97-A337-511E6C0B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15798-C9DC-4DB6-B628-9D139389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84A7A-8111-483D-9063-03C2E45A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38D79-3A91-45A2-892A-5FC3067D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1BB21-0B16-4CF3-ACCC-C53FB4FD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743A1-9DF6-4BEF-B383-7D7A5065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0060E-FEB3-4F1C-8299-2F47D578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57C-5293-437D-9B68-107EA9BE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40201-F37A-4AEF-96F2-52CDF43B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720B8-5F9D-4BBD-A2BD-971625D6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BFFB3-068A-433C-B371-798BDF2C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C5BFD-9486-4469-A456-621887F9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B54AA-1315-45E9-9BE9-1C4F1EB7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3C600-3AD9-4A08-9EEB-AED9EA3B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87363-E0AF-4CB4-8835-EDBE9EA4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0C7F4-3CED-4F06-B733-D152019B2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72504-BC88-482A-B721-8241AA64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AF0B-8B90-4D00-86F1-47975F6C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2FE1-2851-45DB-9117-BE700CAF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8BFF-4160-4C82-ACE8-AD44FBF9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40BA-501B-49A9-A06E-B91AEAD8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2746-13E7-4B15-B4ED-F31F6D4C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4393-2356-4A1F-B526-22C90453E97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B590-FF07-482E-BB80-8C818936609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EA6C-E757-476A-9C96-DABE89BE0DF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3D99-87B9-43FF-A34A-63D3266E0AA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341280" y="1365120"/>
            <a:ext cx="8497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Vlib.co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lissa Cy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formation Literac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-Lib Fac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WWW Virtual Library (VL) is the oldest catalogue on the web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reated by Tim Berners-Lee, the creator of HTML and of the Web itself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reated in 1991 at CERN in Geneva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Unlike commercial catalogues, it is run by a loose confederation of volunteers, who compile pages of key links for particular areas in which they are expert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ven though it isn't the biggest index on the Web, the VL pages are widely recognized as being amongst the highest-quality guides to particular sections of the Web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 central affairs of the VL are now coordinated by an elected council. The first council took office in Jan 2000, following elections the previous year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Home Page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819520" cy="495288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 fontScale="9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There are 16 main headings on the homepage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Agricultur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The A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Business and Economic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Communication and Medi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Computing and Computer Scienc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Educ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Engineering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Humanities &amp; Humanistic Studi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Information &amp; Librari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International Affair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aw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Natural Science &amp; Mathematic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Recre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Regional Studi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Social &amp; Behavioral Studi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3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Society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3575160" y="1295280"/>
            <a:ext cx="5568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side the V-Library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1752480"/>
            <a:ext cx="2971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a heading is selected, a page of sub-fields populate the page.  The example to the right shows the sub-fields in the ‘Social and Behavioral Sciences” head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60199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Deeper inside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486400" y="1920960"/>
            <a:ext cx="32004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ce a sub-field is selected, a list of links ranging from mega-sites to online periodicals will be listed.  There are thousands and thousands of appropriate scholastic sit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4343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V-Lib- All the Info You Ne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2" descr="C:\Users\mlyons\AppData\Local\Microsoft\Windows\Temporary Internet Files\Content.IE5\D14PK8NL\MC900040015[1].wmf"/>
          <p:cNvPicPr/>
          <p:nvPr/>
        </p:nvPicPr>
        <p:blipFill>
          <a:blip r:embed="rId1"/>
          <a:stretch/>
        </p:blipFill>
        <p:spPr>
          <a:xfrm>
            <a:off x="1371600" y="19810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2:52:00Z</dcterms:created>
  <dc:creator>mlyons</dc:creator>
  <dc:description/>
  <dc:language>en-US</dc:language>
  <cp:lastModifiedBy>mlyons</cp:lastModifiedBy>
  <dcterms:modified xsi:type="dcterms:W3CDTF">2011-07-05T14:31:42Z</dcterms:modified>
  <cp:revision>10</cp:revision>
  <dc:subject/>
  <dc:title>The WWW Virtual Library</dc:title>
</cp:coreProperties>
</file>